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850E0-19FD-4FCB-AFCC-FACCBE2E1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evel – fair execution of process steps and user automata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– fair access to shared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passes….if a process is in T for some time, the during this time, some other user may enter C only a number of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exclusion : similar to dijkstra. If proc I and j are in C, assume I sets flag first. After j sets flag to 1, it has to check to see if I has flag = 1, but this will happen while flag(i)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means that if two things are in C, then number(i),I &lt; number(j),j and vice versa which is a contra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Proof by contradiction. Suppose all processes in T or R because progress is not guaranteed. All processes in T eventually complete so process with lowest is going to ent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 freedom: complex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writer: Process I goes from T to C…writes atleast one shared var. So if there are two process, then atleast n shared vars req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relation: s pi sprime where s and sprime are automaton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enabled: for every automaton state S and transition pi, there is exists sprime such that s pi sprime is in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ty restrictions: Any state change not involving shared var can change state in local proces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variables: only read and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region is between try and c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 is between cri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is between exit and 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 is between rem and nex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formed: A try-crit-exit-rem is the prefix to many mor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No reachable system state in which more than one user is in a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If one program is in try and none in critical then at some point someone enters C. Similarly for exit region and non 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wo are safety properties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iveness….notion of fairness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progress….upto users also…not jus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: No guarantee that everyone will get to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4FF2-9B29-4219-9359-1398A4D3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92D6-28A1-489D-A487-10F2264A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CFFF-D5F6-4E6B-A48A-6A46B8B7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1E52-64A1-420A-B732-BCEC0B87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1597-4520-4B2A-B146-31FFC696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87C9-2EF7-4E5C-B88C-46D7CF98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92A9-7188-43FA-A737-B705E2E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B6A-E936-497B-B47E-371386C1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E753-8EE9-4CA0-B07E-E806EDA6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D2F0-CEF2-46CB-BDAD-7258FE69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F4FE-3B64-478E-B4FD-DC42754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F053-3719-4E4D-B58E-0820A470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A1E5-C780-48E5-BE8A-274A8A67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5D98-87AB-4DB8-9644-FA0B9BDD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FDDA-28C2-4112-9E1F-D3A59FEA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2136-81BB-43D3-9F74-F750FA2C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5C77-4A5B-4DF3-A8CF-2385065D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4D47-62E2-44A7-A424-697C07B2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6632-9E1E-4AB8-927B-76076837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7FC5-C63E-4A60-B5C3-F5259DE0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D326-2092-43D1-AEB1-3DDD80BB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F796-04BE-4E34-B9C4-B4154B41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5988-86F6-47CA-91BB-6FCB358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6D30-5169-4921-BE93-B3BA3F2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80E2-5880-47C8-AE5C-B01A93F9C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CE79-309C-4ACF-91E6-6DE7871DC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tual Exclus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ed by: Rohan S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ributed Algorithms Ch. 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ckouts or sta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ou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T eventually enter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E eventually enters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user returns resource within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ach step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you enter C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you enter R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y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eliminate on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k processes can win at level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process can win at level n – 1, yielding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5800" y="2362320"/>
                <a:ext cx="442584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/ wr by all, ini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by all j ≠ i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1981080"/>
                <a:ext cx="5829480" cy="33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[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ou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. Using Single Writer Shared Registers (BurnsME Algorith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anyone else is trying to get a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claim on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2286000"/>
                <a:ext cx="3452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 by i / rd by all j ≠ I, initiall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66680" y="1828800"/>
                <a:ext cx="381024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that will be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and 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’s Mutual Exclus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Conditions for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out-free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Writer Shared Register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kery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after a wait-free do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wa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picks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s for everyone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nd enter critic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2057400"/>
                <a:ext cx="339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osn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ber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828800"/>
                <a:ext cx="792468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lockout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ound on #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mutual exclusion with &lt;n shar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: One at a time access to a shared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o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ing the number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ed memo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is a kind of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kinds of actions: input, output,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cation via th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a transition relation for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s input-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utput and internal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ty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shared variab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of single, indivisible, non-shareable resource amo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by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der (non-critical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666880"/>
            <a:ext cx="198108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02800" y="2666880"/>
            <a:ext cx="5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7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rface of a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memory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lves the mutual exclu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following conditions are satis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form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wo stage flag to indicate what stage of processing a user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utual exclusion by ensuring that only one flag at a time has a value to let it into the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2311560"/>
                <a:ext cx="6019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/ wr by all processes, in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by all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1752480"/>
                <a:ext cx="4876920" cy="46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 </m:t>
                        </m:r>
                        <m:r>
                          <m:t xml:space="preserve">≠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well-form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spection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atu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4:22:41Z</dcterms:created>
  <dc:creator>Rohan Sen</dc:creator>
  <dc:description/>
  <dc:language>en-US</dc:language>
  <cp:lastModifiedBy>Rohan Sen</cp:lastModifiedBy>
  <dcterms:modified xsi:type="dcterms:W3CDTF">2003-09-19T18:11:57Z</dcterms:modified>
  <cp:revision>27</cp:revision>
  <dc:subject/>
  <dc:title>Mutual Exclusion</dc:title>
</cp:coreProperties>
</file>